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5303-7545-475C-ACE6-11B3AB8AB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DB18-C5F3-45D8-8FF6-111404B3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182F-CF8D-486F-8B1D-0548283BE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9946-576C-47BE-AD40-26C8241A0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62C3-4120-49F9-A1D2-C5EC089EB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E712-4110-49AB-B474-356AED79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E95A-4483-4146-BFE0-F9DFE819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B750-36C9-42A9-B2F7-2C41727A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E83B-3A6A-46B1-8F7B-BD6EC75B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AAF2D-3FC9-4111-BFA4-92A9171C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E8F4-B328-41BE-BFD1-6FC3F6D7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1FB2-1372-4FB2-A7A8-E1763619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809A-BD11-4789-B3A4-4729CFB4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6BF8-51A8-4873-8F94-B12DF405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911A-E396-4243-A792-BC68914E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336A-A1DA-4974-AE70-4CC0616D2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C2F2-5141-4C35-A66F-D77791961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1A0B-DF81-4752-9EED-111DBF1E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D3C7-F33E-4BCF-A513-B4E50EC1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0EB0-776A-451C-BEAF-099315AC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F233-6C2A-4F52-BE94-5322F189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0FBF-EF0A-49BE-8C1A-34766C9B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9023-D1B6-48C4-89DA-585F2FC1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0F98-C1EB-4E3F-91FF-F726E05A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B621-4423-4520-B876-AAAF13B375AA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517E-2063-4654-9539-F24AB6349E42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1905 Revolu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5410080"/>
            <a:ext cx="48006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Arial"/>
              </a:rPr>
              <a:t>By Mr Osborne</a:t>
            </a:r>
            <a:br>
              <a:rPr sz="2000"/>
            </a:b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www.SchoolHistory.co.uk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1905 revolu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29000" y="2514600"/>
            <a:ext cx="2286000" cy="25909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War with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Japan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905120"/>
            <a:ext cx="2666880" cy="4498200"/>
          </a:xfrm>
          <a:prstGeom prst="rect">
            <a:avLst/>
          </a:prstGeom>
          <a:solidFill>
            <a:srgbClr val="9a7f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n 1904/05 Russia and Japan fought for control of Korea and Manchuri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e Tsar expected a quick victor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ussia suffered defeats on Land and sea. Japan destroyed the Russian Nav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19920" y="1752480"/>
            <a:ext cx="2819160" cy="4879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sar becomes more unpopula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ussia is humiliated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Government seen to be weak and incompeten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onditions for the people get wors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rice rises food shortages and unemploymen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10280" y="1295280"/>
            <a:ext cx="1600200" cy="45972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sult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1371600"/>
            <a:ext cx="1676160" cy="45972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ackgroun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solidFill>
            <a:srgbClr val="32e02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1905 Revolu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2133720"/>
            <a:ext cx="3124080" cy="2666880"/>
          </a:xfrm>
          <a:custGeom>
            <a:avLst/>
            <a:gdLst>
              <a:gd name="textAreaLeft" fmla="*/ 457560 w 3124080"/>
              <a:gd name="textAreaRight" fmla="*/ 2666520 w 3124080"/>
              <a:gd name="textAreaTop" fmla="*/ 390600 h 2666880"/>
              <a:gd name="textAreaBottom" fmla="*/ 22762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1" y="12116"/>
                </a:lnTo>
                <a:lnTo>
                  <a:pt x="368" y="13595"/>
                </a:lnTo>
                <a:lnTo>
                  <a:pt x="786" y="14846"/>
                </a:lnTo>
                <a:lnTo>
                  <a:pt x="1447" y="16200"/>
                </a:lnTo>
                <a:lnTo>
                  <a:pt x="2175" y="17300"/>
                </a:lnTo>
                <a:lnTo>
                  <a:pt x="3163" y="18437"/>
                </a:lnTo>
                <a:lnTo>
                  <a:pt x="4151" y="19311"/>
                </a:lnTo>
                <a:lnTo>
                  <a:pt x="5400" y="20153"/>
                </a:lnTo>
                <a:lnTo>
                  <a:pt x="6580" y="20741"/>
                </a:lnTo>
                <a:lnTo>
                  <a:pt x="8005" y="21232"/>
                </a:lnTo>
                <a:lnTo>
                  <a:pt x="9297" y="21495"/>
                </a:lnTo>
                <a:lnTo>
                  <a:pt x="10800" y="21600"/>
                </a:lnTo>
                <a:lnTo>
                  <a:pt x="12116" y="21519"/>
                </a:lnTo>
                <a:lnTo>
                  <a:pt x="13595" y="21232"/>
                </a:lnTo>
                <a:lnTo>
                  <a:pt x="14846" y="20814"/>
                </a:lnTo>
                <a:lnTo>
                  <a:pt x="16200" y="20153"/>
                </a:lnTo>
                <a:lnTo>
                  <a:pt x="17300" y="19425"/>
                </a:lnTo>
                <a:lnTo>
                  <a:pt x="18437" y="18437"/>
                </a:lnTo>
                <a:lnTo>
                  <a:pt x="19311" y="17449"/>
                </a:lnTo>
                <a:lnTo>
                  <a:pt x="20153" y="16200"/>
                </a:lnTo>
                <a:lnTo>
                  <a:pt x="20741" y="15020"/>
                </a:lnTo>
                <a:lnTo>
                  <a:pt x="21232" y="13595"/>
                </a:lnTo>
                <a:lnTo>
                  <a:pt x="21495" y="12303"/>
                </a:lnTo>
                <a:lnTo>
                  <a:pt x="21600" y="10800"/>
                </a:lnTo>
                <a:lnTo>
                  <a:pt x="21519" y="9484"/>
                </a:lnTo>
                <a:lnTo>
                  <a:pt x="21232" y="8005"/>
                </a:lnTo>
                <a:lnTo>
                  <a:pt x="20814" y="6754"/>
                </a:lnTo>
                <a:lnTo>
                  <a:pt x="20153" y="5400"/>
                </a:lnTo>
                <a:lnTo>
                  <a:pt x="19425" y="4300"/>
                </a:lnTo>
                <a:lnTo>
                  <a:pt x="18437" y="3163"/>
                </a:lnTo>
                <a:lnTo>
                  <a:pt x="17449" y="2289"/>
                </a:lnTo>
                <a:lnTo>
                  <a:pt x="16200" y="1447"/>
                </a:lnTo>
                <a:lnTo>
                  <a:pt x="15020" y="859"/>
                </a:lnTo>
                <a:lnTo>
                  <a:pt x="13595" y="368"/>
                </a:lnTo>
                <a:lnTo>
                  <a:pt x="12303" y="105"/>
                </a:lnTo>
                <a:lnTo>
                  <a:pt x="10800" y="0"/>
                </a:lnTo>
                <a:lnTo>
                  <a:pt x="9484" y="81"/>
                </a:lnTo>
                <a:lnTo>
                  <a:pt x="8005" y="368"/>
                </a:lnTo>
                <a:lnTo>
                  <a:pt x="6754" y="786"/>
                </a:lnTo>
                <a:lnTo>
                  <a:pt x="5400" y="1447"/>
                </a:lnTo>
                <a:lnTo>
                  <a:pt x="4300" y="2175"/>
                </a:lnTo>
                <a:lnTo>
                  <a:pt x="3163" y="3163"/>
                </a:lnTo>
                <a:lnTo>
                  <a:pt x="2289" y="4151"/>
                </a:lnTo>
                <a:lnTo>
                  <a:pt x="1447" y="5400"/>
                </a:lnTo>
                <a:lnTo>
                  <a:pt x="859" y="6580"/>
                </a:lnTo>
                <a:lnTo>
                  <a:pt x="368" y="8005"/>
                </a:lnTo>
                <a:lnTo>
                  <a:pt x="105" y="9297"/>
                </a:lnTo>
                <a:lnTo>
                  <a:pt x="0" y="10800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Bloody Sunday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2286000"/>
            <a:ext cx="2590560" cy="4132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Jan 1905 200,00 unarmed workers march to the Winter Palac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emands - Better living and working conditions - end to war - a parliamen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oldiers fire on crowd killing 50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2514600"/>
            <a:ext cx="2438640" cy="3400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sar undermined in the eyes of the peopl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upport grows for revolutionari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et off a wave of riots, strikes and murder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828800"/>
            <a:ext cx="1676160" cy="45972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vent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29400" y="1905120"/>
            <a:ext cx="1828800" cy="45972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sult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Results of 1905 Revolu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The October Manifesto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-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romise of freedom of speech, right to form political parties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stablish a Dum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No new laws without consent of the Dum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Broken Promis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Voting system was unfair rich had more influence than the poo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uma had little influence over the Tsar and new law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irst two Dumas were dismissed for demanding reform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urther changes introduced to excluded socialis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y did the Revolution fail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Japan released prisoners to aid the Tsa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ost of the armed forces stayed loyal to the Tsa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October Manifesto divided the opposi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 workers strikes and the peasants uprisings were not co-ordinat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o clear leader for the opposi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Russia 1906 - 1914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The Rule of Stolypi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im of stabilit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1. Repress the revolutionari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2. Introduce reforms to improve living condit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1911 - Stolypin assassinat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0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Results of Stolypin’s action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1. Great reduction in activities of the revolutionari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2. Richer peasants (Kulaks) now run farms for profi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3. Kulaks now loyal to Tsa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4. Cities have more foo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5. Conditions for some workers improve though many remain discontented. 1912/14 many strik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6. Revolutionaries like Lenin learn to adopt new more tactic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18:33:13Z</dcterms:created>
  <dc:creator>Osborne</dc:creator>
  <dc:description/>
  <dc:language>en-US</dc:language>
  <cp:lastModifiedBy>Christopher Wright</cp:lastModifiedBy>
  <dcterms:modified xsi:type="dcterms:W3CDTF">2007-09-03T11:51:20Z</dcterms:modified>
  <cp:revision>3</cp:revision>
  <dc:subject/>
  <dc:title>The 1905 revolution</dc:title>
</cp:coreProperties>
</file>